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46A3-7D1E-435D-9D0F-DAF948C2CFC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82CF-59AE-4853-926B-60F9570A6E99}"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2DD7E-DFC7-4891-88D0-268E03EC8F6B}"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3BE21-AC7D-49AA-8195-70FB0FFBB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A40BE-8197-4236-B115-A12C77FB6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ADC3E-2064-4E24-BE95-3E70F3996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F1651-845B-4FC8-9378-4CE071C18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27262-3206-4BF8-84CF-AE020E573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8B768-93E4-4D5D-8660-DD6EE325B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D5A37-E8D1-454A-9107-E70AE889E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A79FB-D68F-490B-BD6B-D35C2AB08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7A5B3-6369-4758-BD67-A11928EF5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702A0-A358-4870-8E4D-56E65C71E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36B35-0269-41F8-8A44-2988E1974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9E69-7ACC-4735-9B29-909421E08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4BFBD-48D3-4F6D-9CF0-D4A9AA98B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49C75-B86C-474F-AAB9-A68C9DE04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BCED5-0AFB-4128-81A6-937277D65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04697-4CCD-435C-A393-EB144C2B4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2A004-562C-4672-8D18-A4CDED8BC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A3B288-116C-4835-990F-6E5D2A99AB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DB0E0-7894-4D96-9D36-E94A77F71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F0B2E-A986-4DAB-A2D7-3EFB75371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7DF2D3-6911-49AE-8CE0-F1416167B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F39AF-45E5-4BE4-990C-8E4BAF2BDE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B94C3-C2B2-4791-926C-FE9846DEC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027E11-8685-444F-890A-E966F0BAE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FA6DE-867B-4471-AAFA-470D66DC7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0F0E0-19AB-4C61-B86D-EBE787F4F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EF5219-8A3B-42A9-9132-51D6F3B54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417A99-1937-4562-9F7C-D6D13C98F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0EAD1-D87E-4E84-8C1E-508E300D1D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8DBD61-6853-4CD4-B1C2-12579B3EF9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8B102C-5E6B-4370-9B0D-F9A6E05D48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69724B-61E0-4244-A2FC-51BC33CD0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8B843B-3897-4AA9-9FF3-3547B66D36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4C366-1321-4FE1-A7F9-8613687DB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F0ABF9-9D6D-4166-8F32-AED661628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06B0C-B8FA-4C1E-914F-5321F5D1B1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D37456-817B-43C1-87FC-9C926F554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39E0E-745A-46CB-AE35-C81C07881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409E03-A378-49CC-8B56-968937281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EC4D65-9286-49B3-9682-7D4207132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F1F6A-543B-4077-BAD2-E9564B7DC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6E8E74-FE64-4D0E-8947-623BF904FD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DA236D-C1C1-495B-B5D6-EA73196799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445D66-68F1-4A3A-B895-CCF3FFF8DE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D9AFC-95B2-469E-A50B-CF81B554F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5B306-BE01-4CD9-9572-2A368C748D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CCD6F7-1760-4571-A2DF-25BA9CC21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43161B-0711-4E52-A85F-1E4C0A3DC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6ACBF9-55A9-4325-B913-149D04AFC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A30E0-2763-485D-AF20-A8371E7E0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7C1220-3F92-4DCD-9606-D6E4EAE43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4872E-F96B-443F-99BE-A4132524C2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CF967-FDF6-4F52-B042-4D06D47C8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EB67E3-5AD4-430A-A3FC-5AE6B4B377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EFADCA-9205-497A-8007-3755554571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02624-C17E-4989-BFF3-6C6489CE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4D136A-05FE-47C9-BD55-8EE517A5AE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B225EB-25BA-4771-AE9E-9D0101AF45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672FDF-67E0-4F0A-AD80-D53665B546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42DFFD-29B7-4DC1-8772-50349E1AA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D9C0AF-3042-4826-8143-BABFBBA315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E2992-CAA0-4413-B931-4123AE2B39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329E24-3A4D-42AE-9AA7-C765063BF9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AD051-08DC-4147-80C1-79AD81991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BF478F-70F4-45CC-BB34-D86AF6155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BB084-B535-44AD-BDF9-8FF872D0D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AA21-B458-49BE-AA63-771499519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58A09-3859-46D0-8D46-021E1723AA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0E5D79-DC3C-4F0B-84D0-5F7539871E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56659A-C5F0-43AA-BD95-113EDE2010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751C90-0CAC-44F5-8761-C80367F16E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2BCE26-C902-4FCA-A942-36AF375B12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C3C8BE-6ECF-4703-9724-336A5C1AFB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B55B21-82B8-4FB6-B31B-D877BE175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29ED1D-B460-43E4-A247-D6A9943997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017587-E108-4C32-9EE1-16C6A15067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C3652C-66AC-4046-AC1B-F610531B48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8EAA0-5DCC-4976-B631-D4412C70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D712F-04C9-4916-B56F-E6612A2BA2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B95419-5B2C-4B75-BE12-64AFE96476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0ECB67-87F6-478B-82F4-2A7C6005E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9AB09C-94E2-4C3A-AA2F-EA65DA4876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289617-BEF2-4201-B8D2-255EBB7B70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95D94-F509-40E4-842A-5294BF547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5942-CCBC-44A8-9D85-BFB5AC41AF2C}"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23AE-143F-42D3-880E-D3E08A862D6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DC71-2FE4-4089-9263-3AD853A1AEF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8823-DBE6-4B0C-99A4-0FF6D9A3F865}"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06A7-96E5-4969-923E-FE4D922D261A}"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B70B-595A-4C01-B03D-B19C910A2B83}"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698C-EBDD-44A6-966A-499DAF352F1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52120" y="762120"/>
            <a:ext cx="632484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lang="ru-RU" sz="1400" spc="-1" strike="noStrike">
                <a:solidFill>
                  <a:srgbClr val="000000"/>
                </a:solidFill>
                <a:latin typeface="Times New Roman"/>
                <a:ea typeface="Times New Roman"/>
              </a:rPr>
              <a:t>Муниципальное общеобразовательное казенное учреждение </a:t>
            </a:r>
            <a:br>
              <a:rPr sz="1400"/>
            </a:br>
            <a:r>
              <a:rPr b="1" lang="ru-RU" sz="1400" spc="-1" strike="noStrike">
                <a:solidFill>
                  <a:srgbClr val="000000"/>
                </a:solidFill>
                <a:latin typeface="Times New Roman"/>
                <a:ea typeface="Times New Roman"/>
              </a:rPr>
              <a:t>Таскинская основная общеобразовательная школа</a:t>
            </a:r>
            <a:br>
              <a:rPr sz="2800"/>
            </a:br>
            <a:br>
              <a:rPr sz="2800"/>
            </a:br>
            <a:r>
              <a:rPr b="1" lang="ru-RU" sz="2800" spc="-1" strike="noStrike">
                <a:solidFill>
                  <a:srgbClr val="000000"/>
                </a:solidFill>
                <a:latin typeface="Times New Roman"/>
                <a:ea typeface="Times New Roman"/>
              </a:rPr>
              <a:t>Тема проекта:</a:t>
            </a:r>
            <a:br>
              <a:rPr sz="2800"/>
            </a:br>
            <a:r>
              <a:rPr b="1" i="1"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Происхождение и значение</a:t>
            </a:r>
            <a:br>
              <a:rPr sz="2800"/>
            </a:br>
            <a:r>
              <a:rPr b="1" lang="ru-RU" sz="2800" spc="-1" strike="noStrike">
                <a:solidFill>
                  <a:srgbClr val="000000"/>
                </a:solidFill>
                <a:latin typeface="Times New Roman"/>
                <a:ea typeface="Times New Roman"/>
              </a:rPr>
              <a:t>фамилий моих одноклассников</a:t>
            </a:r>
            <a:r>
              <a:rPr b="1" i="1" lang="ru-RU" sz="2800" spc="-1" strike="noStrike">
                <a:solidFill>
                  <a:srgbClr val="000000"/>
                </a:solidFill>
                <a:latin typeface="Times New Roman"/>
                <a:ea typeface="Times New Roman"/>
              </a:rPr>
              <a:t>».</a:t>
            </a:r>
            <a:br>
              <a:rPr sz="2800"/>
            </a:br>
            <a:br>
              <a:rPr sz="2800"/>
            </a:br>
            <a:r>
              <a:rPr b="1" i="1" lang="en-US" sz="2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боту выполнил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еница 5 класс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луб Анастасия</a:t>
            </a:r>
            <a:br>
              <a:rPr sz="1800"/>
            </a:br>
            <a:r>
              <a:rPr b="0" lang="ru-RU" sz="1800" spc="-1" strike="noStrike">
                <a:solidFill>
                  <a:srgbClr val="000000"/>
                </a:solidFill>
                <a:latin typeface="Times New Roman"/>
                <a:ea typeface="Times New Roman"/>
              </a:rPr>
              <a:t> </a:t>
            </a:r>
            <a:br>
              <a:rPr sz="1800"/>
            </a:br>
            <a:r>
              <a:rPr b="0" lang="ru-RU" sz="1800" spc="-1" strike="noStrike">
                <a:solidFill>
                  <a:srgbClr val="000000"/>
                </a:solidFill>
                <a:latin typeface="Times New Roman"/>
                <a:ea typeface="Times New Roman"/>
              </a:rPr>
              <a:t>                                                             Руководитель: Голуб А.Р.</a:t>
            </a:r>
            <a:br>
              <a:rPr sz="1800"/>
            </a:br>
            <a:br>
              <a:rPr sz="1800"/>
            </a:br>
            <a:r>
              <a:rPr b="0" lang="ru-RU" sz="1800" spc="-1" strike="noStrike">
                <a:solidFill>
                  <a:srgbClr val="000000"/>
                </a:solidFill>
                <a:latin typeface="Times New Roman"/>
                <a:ea typeface="Times New Roman"/>
              </a:rPr>
              <a:t>Таскино, 2018</a:t>
            </a:r>
            <a:br>
              <a:rPr sz="1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Диаграмма 3" descr=""/>
          <p:cNvPicPr/>
          <p:nvPr/>
        </p:nvPicPr>
        <p:blipFill>
          <a:blip r:embed="rId1"/>
          <a:stretch/>
        </p:blipFill>
        <p:spPr>
          <a:xfrm>
            <a:off x="228600" y="228600"/>
            <a:ext cx="5486400" cy="3200400"/>
          </a:xfrm>
          <a:prstGeom prst="rect">
            <a:avLst/>
          </a:prstGeom>
          <a:ln w="0">
            <a:noFill/>
          </a:ln>
        </p:spPr>
      </p:pic>
      <p:graphicFrame>
        <p:nvGraphicFramePr>
          <p:cNvPr id="311" name="Диаграмма 4"/>
          <p:cNvGraphicFramePr/>
          <p:nvPr/>
        </p:nvGraphicFramePr>
        <p:xfrm>
          <a:off x="3352680" y="3352680"/>
          <a:ext cx="5486400" cy="3200400"/>
        </p:xfrm>
        <a:graphic>
          <a:graphicData uri="http://schemas.openxmlformats.org/presentationml/2006/ole">
            <p:oleObj progId="Excel.Sheet.12" r:id="rId2" spid="">
              <p:embed/>
              <p:pic>
                <p:nvPicPr>
                  <p:cNvPr id="312" name="Диаграмма 4" descr=""/>
                  <p:cNvPicPr/>
                  <p:nvPr/>
                </p:nvPicPr>
                <p:blipFill>
                  <a:blip r:embed="rId3"/>
                  <a:stretch/>
                </p:blipFill>
                <p:spPr>
                  <a:xfrm>
                    <a:off x="3352680" y="3352680"/>
                    <a:ext cx="5486400" cy="320040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Диаграмма 3"/>
          <p:cNvGraphicFramePr/>
          <p:nvPr/>
        </p:nvGraphicFramePr>
        <p:xfrm>
          <a:off x="762120" y="685800"/>
          <a:ext cx="7543800" cy="4724280"/>
        </p:xfrm>
        <a:graphic>
          <a:graphicData uri="http://schemas.openxmlformats.org/presentationml/2006/ole">
            <p:oleObj progId="Excel.Sheet.12" r:id="rId1" spid="">
              <p:embed/>
              <p:pic>
                <p:nvPicPr>
                  <p:cNvPr id="314" name="Диаграмма 3" descr=""/>
                  <p:cNvPicPr/>
                  <p:nvPr/>
                </p:nvPicPr>
                <p:blipFill>
                  <a:blip r:embed="rId2"/>
                  <a:stretch/>
                </p:blipFill>
                <p:spPr>
                  <a:xfrm>
                    <a:off x="762120" y="685800"/>
                    <a:ext cx="7543800" cy="4724280"/>
                  </a:xfrm>
                  <a:prstGeom prst="rect">
                    <a:avLst/>
                  </a:prstGeom>
                  <a:ln w="0">
                    <a:noFill/>
                  </a:ln>
                </p:spPr>
              </p:pic>
            </p:oleObj>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71440" y="990720"/>
            <a:ext cx="5715000" cy="533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16" name="Rectangle 4"/>
          <p:cNvSpPr/>
          <p:nvPr/>
        </p:nvSpPr>
        <p:spPr>
          <a:xfrm>
            <a:off x="2971800" y="1470960"/>
            <a:ext cx="58672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     </a:t>
            </a:r>
            <a:r>
              <a:rPr b="1" lang="ru-RU" sz="1800" spc="-1" strike="noStrike">
                <a:solidFill>
                  <a:srgbClr val="ffff00"/>
                </a:solidFill>
                <a:latin typeface="Times New Roman"/>
                <a:ea typeface="Calibri"/>
              </a:rPr>
              <a:t>Войнаровские</a:t>
            </a:r>
            <a:r>
              <a:rPr b="1"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 польский дворянский род герба Стремя (стржеме), в последствии состоявший в русском подданстве. Войнаровские происходят из Краковского воеводства, где Севастиан Войнаровский владел поместьями в 1588 году. В первой половине XVII в. Иван Войнаровский переселился в Овручский уезд. От сыновей его, Андрея, брацлавского</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одстолия, и Петра, ловчего овручского, пошли две линии этого рода, внесенные в VI часть родословной книги Волынской губернии. Другая отрасль Войнаровских происходит от Франца Войнаровскиого, владевшего поместьями в </a:t>
            </a:r>
            <a:r>
              <a:rPr b="1" lang="ru-RU" sz="1800" spc="-1" strike="noStrike">
                <a:solidFill>
                  <a:srgbClr val="000000"/>
                </a:solidFill>
                <a:latin typeface="Times New Roman"/>
                <a:ea typeface="Calibri"/>
              </a:rPr>
              <a:t>Сандомирском</a:t>
            </a:r>
            <a:r>
              <a:rPr b="0" lang="ru-RU" sz="1800" spc="-1" strike="noStrike">
                <a:solidFill>
                  <a:srgbClr val="000000"/>
                </a:solidFill>
                <a:latin typeface="Times New Roman"/>
                <a:ea typeface="Calibri"/>
              </a:rPr>
              <a:t> воеводстве в 1683 году. Она внесена в VI часть родословной книги губ. Киевской и Волынско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Войнаровский, как и многие польские дворянские фамилии, происходит от названия имения польского селения Войнарова, которым в свое время владели предки Войнаровский и в переводе на русский язык означает «Из Войнаровы». </a:t>
            </a:r>
            <a:endParaRPr b="0" lang="en-US" sz="1800" spc="-1" strike="noStrike">
              <a:solidFill>
                <a:srgbClr val="000000"/>
              </a:solidFill>
              <a:latin typeface="Arial"/>
            </a:endParaRPr>
          </a:p>
        </p:txBody>
      </p:sp>
      <p:pic>
        <p:nvPicPr>
          <p:cNvPr id="317" name="Picture 5" descr=""/>
          <p:cNvPicPr/>
          <p:nvPr/>
        </p:nvPicPr>
        <p:blipFill>
          <a:blip r:embed="rId1"/>
          <a:stretch/>
        </p:blipFill>
        <p:spPr>
          <a:xfrm>
            <a:off x="231840" y="1981080"/>
            <a:ext cx="2670120" cy="3706920"/>
          </a:xfrm>
          <a:prstGeom prst="rect">
            <a:avLst/>
          </a:prstGeom>
          <a:ln w="0">
            <a:noFill/>
          </a:ln>
        </p:spPr>
      </p:pic>
      <p:sp>
        <p:nvSpPr>
          <p:cNvPr id="318" name="Прямоугольник 4"/>
          <p:cNvSpPr/>
          <p:nvPr/>
        </p:nvSpPr>
        <p:spPr>
          <a:xfrm>
            <a:off x="228600" y="228600"/>
            <a:ext cx="86104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2.Анализ происхождения фамил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атериалом для моего собственного исследования стали фамилии моих одноклассников. Я решила выяснить: от каких слов произошли их фамилии, и на какие группы можно разбить эти фамилии. Всего у меня был список из 4 фамилий. О фамилиях моих одноклассников, я узнала следующее:</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231840" y="914400"/>
            <a:ext cx="2670120" cy="3432240"/>
          </a:xfrm>
          <a:prstGeom prst="rect">
            <a:avLst/>
          </a:prstGeom>
          <a:ln w="0">
            <a:noFill/>
          </a:ln>
        </p:spPr>
      </p:pic>
      <p:sp>
        <p:nvSpPr>
          <p:cNvPr id="320" name="Rectangle 3"/>
          <p:cNvSpPr/>
          <p:nvPr/>
        </p:nvSpPr>
        <p:spPr>
          <a:xfrm>
            <a:off x="2971800" y="407880"/>
            <a:ext cx="5791320" cy="585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и фамилии </a:t>
            </a:r>
            <a:r>
              <a:rPr b="1" lang="ru-RU" sz="1800" spc="-1" strike="noStrike">
                <a:solidFill>
                  <a:srgbClr val="ffff00"/>
                </a:solidFill>
                <a:latin typeface="Times New Roman"/>
                <a:ea typeface="Calibri"/>
              </a:rPr>
              <a:t>Голуб</a:t>
            </a:r>
            <a:r>
              <a:rPr b="0" lang="ru-RU" sz="1800" spc="-1" strike="noStrike">
                <a:solidFill>
                  <a:srgbClr val="000000"/>
                </a:solidFill>
                <a:latin typeface="Times New Roman"/>
                <a:ea typeface="Calibri"/>
              </a:rPr>
              <a:t>, безусловно, могут гордиться своей фамилией как памятником украинской истории, культуры и язык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Голуб относится к распространенному типу украинских фамилий и образована от личного прозвищ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розвище Голуб, вероятно, возникло от нарицательного «голуб». В украинском и белорусском это слово означает «птица». У многих народов птица исконно выступает в качестве символа неба, символа божьей воли. Вполне вероятно, что предок рода Голуб был из духовенства, тем более что близкое по своему фонетическому оформлению слову «голуб» русское название птицы «голубь» в христианстве всегда почиталась как символ «Духа Свято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днако не исключено и то, что прозвище Голуб связано со словом «голубить» –</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ласкать, миловать, нежить». Таким образом, легшее в основу фамилии прозвище Голуб родоначальник имени, полностью заменило его как в повседневной жизни, так и в официальных документах. В результате чего это прозвище стало основой для фамилии Голуб.</a:t>
            </a:r>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5" descr=""/>
          <p:cNvPicPr/>
          <p:nvPr/>
        </p:nvPicPr>
        <p:blipFill>
          <a:blip r:embed="rId1"/>
          <a:stretch/>
        </p:blipFill>
        <p:spPr>
          <a:xfrm>
            <a:off x="304920" y="231840"/>
            <a:ext cx="2133360" cy="2408040"/>
          </a:xfrm>
          <a:prstGeom prst="rect">
            <a:avLst/>
          </a:prstGeom>
          <a:ln w="0">
            <a:noFill/>
          </a:ln>
        </p:spPr>
      </p:pic>
      <p:sp>
        <p:nvSpPr>
          <p:cNvPr id="322" name="PlaceHolder 1"/>
          <p:cNvSpPr>
            <a:spLocks noGrp="1"/>
          </p:cNvSpPr>
          <p:nvPr>
            <p:ph type="title"/>
          </p:nvPr>
        </p:nvSpPr>
        <p:spPr>
          <a:xfrm>
            <a:off x="2590560" y="197640"/>
            <a:ext cx="6172200" cy="6401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следование       истории       возникновения      фамилии</a:t>
            </a:r>
            <a:r>
              <a:rPr b="1" lang="ru-RU" sz="1800" spc="-1" strike="noStrike">
                <a:solidFill>
                  <a:srgbClr val="000000"/>
                </a:solidFill>
                <a:latin typeface="Times New Roman"/>
                <a:ea typeface="Times New Roman"/>
              </a:rPr>
              <a:t> </a:t>
            </a:r>
            <a:r>
              <a:rPr b="1" lang="ru-RU" sz="1800" spc="-1" strike="noStrike">
                <a:solidFill>
                  <a:srgbClr val="ffff00"/>
                </a:solidFill>
                <a:latin typeface="Times New Roman"/>
                <a:ea typeface="Times New Roman"/>
              </a:rPr>
              <a:t>Король  </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крывает  забытые страницы  жизни   и  культуры наших  предков   и   может  поведать  много  любопытного  о далеком прошлом.</a:t>
            </a:r>
            <a:br>
              <a:rPr sz="1800"/>
            </a:br>
            <a:r>
              <a:rPr b="0" lang="ru-RU" sz="1800" spc="-1" strike="noStrike">
                <a:solidFill>
                  <a:srgbClr val="000000"/>
                </a:solidFill>
                <a:latin typeface="Times New Roman"/>
                <a:ea typeface="Times New Roman"/>
              </a:rPr>
              <a:t>     Фамилия   Король    принадлежит    к   старинному    типу славянских  фамилий, образованных  от  личного  прозвища.</a:t>
            </a:r>
            <a:br>
              <a:rPr sz="1800"/>
            </a:br>
            <a:r>
              <a:rPr b="0" lang="ru-RU" sz="1800" spc="-1" strike="noStrike">
                <a:solidFill>
                  <a:srgbClr val="000000"/>
                </a:solidFill>
                <a:latin typeface="Times New Roman"/>
                <a:ea typeface="Times New Roman"/>
              </a:rPr>
              <a:t>     К   числу   подобных    именований    можно    отнести    и величественное   прозвание   Король.   По-видимому,   такое прозвище   на   Руси   мог   получить   красивый   и  сильный человек, а возможно, властный и требовательный наставник.   </a:t>
            </a:r>
            <a:br>
              <a:rPr sz="1800"/>
            </a:br>
            <a:r>
              <a:rPr b="0" lang="ru-RU" sz="1800" spc="-1" strike="noStrike">
                <a:solidFill>
                  <a:srgbClr val="000000"/>
                </a:solidFill>
                <a:latin typeface="Times New Roman"/>
                <a:ea typeface="Times New Roman"/>
              </a:rPr>
              <a:t>     Кроме   того,   в   старину   была   очень   популярна   игра «короли»,   победитель   которой   назывался   королем   и   в дальнейшем мог стать обладателем этого прозвания. Так или иначе,       именование       Король       получило       широкое распространение среди россиян различных сословий.</a:t>
            </a:r>
            <a:br>
              <a:rPr sz="1800"/>
            </a:br>
            <a:r>
              <a:rPr b="0" lang="ru-RU" sz="1800" spc="-1" strike="noStrike">
                <a:solidFill>
                  <a:srgbClr val="000000"/>
                </a:solidFill>
                <a:latin typeface="Times New Roman"/>
                <a:ea typeface="Times New Roman"/>
              </a:rPr>
              <a:t>     Поскольку     процесс     формирования     фамилий     был достаточно   длительным,    о    точном    месте    и    времени возникновения фамилии Король в настоящее время говорить сложно. </a:t>
            </a:r>
            <a:br>
              <a:rPr sz="1800"/>
            </a:br>
            <a:r>
              <a:rPr b="0" lang="ru-RU" sz="1800" spc="-1" strike="noStrike">
                <a:solidFill>
                  <a:srgbClr val="000000"/>
                </a:solidFill>
                <a:latin typeface="Times New Roman"/>
                <a:ea typeface="Times New Roman"/>
              </a:rPr>
              <a:t>     Однако,  так  как  прозвание  Король  перешло в фамилию без  изменений,  то  можно  утверждать, что она имеет очень древнее происхождение.</a:t>
            </a:r>
            <a:endParaRPr b="0" lang="en-US" sz="1800" spc="-1" strike="noStrike">
              <a:solidFill>
                <a:srgbClr val="000000"/>
              </a:solidFill>
              <a:latin typeface="Arial"/>
            </a:endParaRPr>
          </a:p>
        </p:txBody>
      </p:sp>
      <p:pic>
        <p:nvPicPr>
          <p:cNvPr id="323" name="Picture 8" descr=""/>
          <p:cNvPicPr/>
          <p:nvPr/>
        </p:nvPicPr>
        <p:blipFill>
          <a:blip r:embed="rId2"/>
          <a:stretch/>
        </p:blipFill>
        <p:spPr>
          <a:xfrm>
            <a:off x="304920" y="2743200"/>
            <a:ext cx="2133360" cy="27432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F:\фото дети\попова маша.jpg"/>
          <p:cNvPicPr/>
          <p:nvPr/>
        </p:nvPicPr>
        <p:blipFill>
          <a:blip r:embed="rId1"/>
          <a:stretch/>
        </p:blipFill>
        <p:spPr>
          <a:xfrm>
            <a:off x="231840" y="762120"/>
            <a:ext cx="2627280" cy="3504960"/>
          </a:xfrm>
          <a:prstGeom prst="rect">
            <a:avLst/>
          </a:prstGeom>
          <a:ln w="0">
            <a:noFill/>
          </a:ln>
        </p:spPr>
      </p:pic>
      <p:sp>
        <p:nvSpPr>
          <p:cNvPr id="325" name="PlaceHolder 1"/>
          <p:cNvSpPr>
            <a:spLocks noGrp="1"/>
          </p:cNvSpPr>
          <p:nvPr>
            <p:ph type="title"/>
          </p:nvPr>
        </p:nvSpPr>
        <p:spPr>
          <a:xfrm>
            <a:off x="2971800" y="304560"/>
            <a:ext cx="5867280" cy="590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ьница  фамилии  </a:t>
            </a:r>
            <a:r>
              <a:rPr b="1" lang="ru-RU" sz="1800" spc="-1" strike="noStrike">
                <a:solidFill>
                  <a:srgbClr val="ffff00"/>
                </a:solidFill>
                <a:latin typeface="Times New Roman"/>
                <a:ea typeface="Calibri"/>
              </a:rPr>
              <a:t>Попова </a:t>
            </a:r>
            <a:r>
              <a:rPr b="0" lang="ru-RU" sz="1800" spc="-1" strike="noStrike">
                <a:solidFill>
                  <a:srgbClr val="000000"/>
                </a:solidFill>
                <a:latin typeface="Times New Roman"/>
                <a:ea typeface="Calibri"/>
              </a:rPr>
              <a:t>  по   праву   может гордиться    своими    предками,    сведения    о    которых содержатся  в  различных  документах,  подтверждающих след, оставленный ими в истории России.</a:t>
            </a:r>
            <a:br>
              <a:rPr sz="1800"/>
            </a:br>
            <a:r>
              <a:rPr b="0" lang="ru-RU" sz="1800" spc="-1" strike="noStrike">
                <a:solidFill>
                  <a:srgbClr val="000000"/>
                </a:solidFill>
                <a:latin typeface="Times New Roman"/>
                <a:ea typeface="Calibri"/>
              </a:rPr>
              <a:t>     Основой  фамилии  Попова   послужило  мирское   имя родоначальника  Поп.  Такое именование присоединялось родителями   ребенка   к   имени,   полученному   им   при крещении.  Это  имя употреблялось чаще крестильного  и закреплялось за человеком на всю жизнь.</a:t>
            </a:r>
            <a:br>
              <a:rPr sz="1800"/>
            </a:br>
            <a:r>
              <a:rPr b="0" lang="ru-RU" sz="1800" spc="-1" strike="noStrike">
                <a:solidFill>
                  <a:srgbClr val="000000"/>
                </a:solidFill>
                <a:latin typeface="Times New Roman"/>
                <a:ea typeface="Calibri"/>
              </a:rPr>
              <a:t>     Эта    фамилия     могла    восходить     не     только     к нарицательному «поп»,  но  и к очень распространенному в   прошлом  нехристианскому  личному  имени   Поп,  от которого  и образовалось притяжательное «попов». Такое именование,   в  свою  очередь,  использовалось  как   для обозначения   сына  священника  или  сына   человека   по имени    Поп,   так   и   для   названия   попова  работника, батрака.</a:t>
            </a:r>
            <a:br>
              <a:rPr sz="1800"/>
            </a:br>
            <a:r>
              <a:rPr b="0" lang="ru-RU" sz="1800" spc="-1" strike="noStrike">
                <a:solidFill>
                  <a:srgbClr val="000000"/>
                </a:solidFill>
                <a:latin typeface="Times New Roman"/>
                <a:ea typeface="Calibri"/>
              </a:rPr>
              <a:t>     Это одно из самых старинных церковных званий стало употребляться    в    России    практически    сразу    после принятия  христианства и впервые было упомянуто еще в 1047 году в «Песнословии пророков».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1523880" y="1752480"/>
          <a:ext cx="6077160" cy="4206960"/>
        </p:xfrm>
        <a:graphic>
          <a:graphicData uri="http://schemas.openxmlformats.org/drawingml/2006/table">
            <a:tbl>
              <a:tblPr/>
              <a:tblGrid>
                <a:gridCol w="3038760"/>
                <a:gridCol w="3038400"/>
              </a:tblGrid>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мир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етр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Ива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л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знец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силь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кол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йц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оп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в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бед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емё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з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Голуб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ви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Виноград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роз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огда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лов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роб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7" name="Rectangle 8"/>
          <p:cNvSpPr/>
          <p:nvPr/>
        </p:nvSpPr>
        <p:spPr>
          <a:xfrm>
            <a:off x="810720" y="382680"/>
            <a:ext cx="7401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исок самых распространённых фамилий (20)</a:t>
            </a:r>
            <a:endParaRPr b="0" lang="en-US" sz="2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29" name=""/>
          <p:cNvSpPr txBox="1"/>
          <p:nvPr/>
        </p:nvSpPr>
        <p:spPr>
          <a:xfrm>
            <a:off x="304560" y="380880"/>
            <a:ext cx="8458200" cy="60962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ключение</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нёмся к гипотезе моей работы.  Каждая фамилия – это загадка, разгадать которую можно, если быть очень внимательным к слову; уникальное и неповторимое явление нашей культуры,  живая история.  Я предполагала, </a:t>
            </a:r>
            <a:r>
              <a:rPr b="0" i="1" lang="ru-RU" sz="2000" spc="-1" strike="noStrike" u="sng">
                <a:solidFill>
                  <a:srgbClr val="000000"/>
                </a:solidFill>
                <a:uFillTx/>
                <a:latin typeface="Times New Roman"/>
                <a:ea typeface="Times New Roman"/>
              </a:rPr>
              <a:t>что большинство фамилий моих одноклассников образовано от имён собственных, прозвищ, которые  всегда  давались  на  Руси (60%).</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я гипотеза полностью подтвердилась.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нная работа может быть продолжена в нескольких направлениях, можно значительно расширить список изучаемых фамилий, можно составить более точную классификацию фамилий, можно выяснить значения тех фамилий, которые  я  не смогла точно определить в рамках этой работы, для этого понадобятся дополнительные словари.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милии являются отражением истории нашей страны, а также каждой конкретной семьи. На наш взгляд, каждый человек должен знать, кто были его предки. Исследовательская работа убедила   меня   в том, что фамилии могут быть интереснейшим источником для исследований, так как в них отражаются время и человек — его общественное положение и духовный мир.</a:t>
            </a:r>
            <a:endParaRPr b="0" lang="en-US" sz="20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4"/>
          <p:cNvSpPr/>
          <p:nvPr/>
        </p:nvSpPr>
        <p:spPr>
          <a:xfrm>
            <a:off x="990720" y="167652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c00000"/>
                </a:solidFill>
                <a:latin typeface="Ariston"/>
                <a:ea typeface="Times New Roman"/>
              </a:rPr>
              <a:t>Спасибо за внимание!</a:t>
            </a:r>
            <a:endParaRPr b="0" lang="en-US" sz="9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ubTitle"/>
          </p:nvPr>
        </p:nvSpPr>
        <p:spPr>
          <a:xfrm>
            <a:off x="304560" y="1447920"/>
            <a:ext cx="8458200" cy="541008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rPr>
              <a:t>      </a:t>
            </a:r>
            <a:endParaRPr b="0" lang="en-US" sz="2200" spc="-1" strike="noStrike">
              <a:solidFill>
                <a:srgbClr val="000000"/>
              </a:solidFill>
              <a:latin typeface="Arial"/>
            </a:endParaRPr>
          </a:p>
        </p:txBody>
      </p:sp>
      <p:sp>
        <p:nvSpPr>
          <p:cNvPr id="296" name="Rectangle 4"/>
          <p:cNvSpPr/>
          <p:nvPr/>
        </p:nvSpPr>
        <p:spPr>
          <a:xfrm>
            <a:off x="304920" y="331920"/>
            <a:ext cx="8534160" cy="5762520"/>
          </a:xfrm>
          <a:prstGeom prst="rect">
            <a:avLst/>
          </a:prstGeom>
          <a:noFill/>
          <a:ln w="0">
            <a:noFill/>
          </a:ln>
        </p:spPr>
        <p:style>
          <a:lnRef idx="0"/>
          <a:fillRef idx="0"/>
          <a:effectRef idx="0"/>
          <a:fontRef idx="minor"/>
        </p:style>
        <p:txBody>
          <a:bodyPr lIns="90000" rIns="90000" tIns="15228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ведени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от уже пятый год мы вместе с одноклассниками постигаем азы наук и «грызем гранит науки». С некоторыми из них мы знакомы с детского сада, поэтому к звучанию имен и фамилий друг друга уже привыкли. Но в этом учебном году при изучении темы «Собственные имена существительные», учитель обратилась к нам с просьбой объяснить, что означают наши фамилии. К сожаленью, многие не смогли ответить. Так родилась идея исследовани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й проект позволяет обратиться к истокам возникновения фамилий, проанализировать, какие фамилии и как живут в языке в наше время. Работа помогает определить, интересно ли знать современным школьникам историю своего рода, своей семьи, страны. Следовательно, тему проекта можно считать </a:t>
            </a:r>
            <a:r>
              <a:rPr b="1" i="1" lang="ru-RU" sz="2000" spc="-1" strike="noStrike">
                <a:solidFill>
                  <a:srgbClr val="000000"/>
                </a:solidFill>
                <a:latin typeface="Times New Roman"/>
                <a:ea typeface="Times New Roman"/>
              </a:rPr>
              <a:t>актуальной.</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вязи с этим возникает </a:t>
            </a:r>
            <a:r>
              <a:rPr b="1" i="1" lang="ru-RU" sz="2000" spc="-1" strike="noStrike">
                <a:solidFill>
                  <a:srgbClr val="000000"/>
                </a:solidFill>
                <a:latin typeface="Times New Roman"/>
                <a:ea typeface="Times New Roman"/>
              </a:rPr>
              <a:t>проблема</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ольшинство современных школьников не знают происхождение и значение своих фамилий.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з данной проблемы возникает </a:t>
            </a:r>
            <a:r>
              <a:rPr b="1" i="1" lang="ru-RU" sz="2000" spc="-1" strike="noStrike">
                <a:solidFill>
                  <a:srgbClr val="000000"/>
                </a:solidFill>
                <a:latin typeface="Times New Roman"/>
                <a:ea typeface="Times New Roman"/>
              </a:rPr>
              <a:t>гипотеза</a:t>
            </a:r>
            <a:r>
              <a:rPr b="1" lang="ru-RU"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большинство фамилий моих одноклассников образованы от собственных имён, прозви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761760" y="533160"/>
            <a:ext cx="7848360" cy="5562360"/>
          </a:xfrm>
          <a:prstGeom prst="rect">
            <a:avLst/>
          </a:prstGeom>
          <a:noFill/>
          <a:ln w="0">
            <a:noFill/>
          </a:ln>
        </p:spPr>
        <p:txBody>
          <a:bodyPr anchor="b">
            <a:normAutofit/>
          </a:bodyPr>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8" name="Rectangle 3"/>
          <p:cNvSpPr/>
          <p:nvPr/>
        </p:nvSpPr>
        <p:spPr>
          <a:xfrm>
            <a:off x="380880" y="404280"/>
            <a:ext cx="8458200" cy="527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Цель проекта: </a:t>
            </a:r>
            <a:r>
              <a:rPr b="0" lang="ru-RU" sz="2000" spc="-1" strike="noStrike">
                <a:solidFill>
                  <a:srgbClr val="000000"/>
                </a:solidFill>
                <a:latin typeface="Times New Roman"/>
                <a:ea typeface="Calibri"/>
              </a:rPr>
              <a:t>анализ фамилий (антропонимов) моих одноклассников.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достижения указанной цели в ходе проекта решались следующие </a:t>
            </a:r>
            <a:r>
              <a:rPr b="1" lang="ru-RU" sz="2000" spc="-1" strike="noStrike">
                <a:solidFill>
                  <a:srgbClr val="000000"/>
                </a:solidFill>
                <a:latin typeface="Times New Roman"/>
                <a:ea typeface="Calibri"/>
              </a:rPr>
              <a:t>задачи:</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 Познакомиться с научной литературой, словарями по исследуемой тем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2. Узнать, какова </a:t>
            </a:r>
            <a:r>
              <a:rPr b="0" lang="ru-RU" sz="2000" spc="-1" strike="noStrike">
                <a:solidFill>
                  <a:srgbClr val="000000"/>
                </a:solidFill>
                <a:latin typeface="Times New Roman"/>
                <a:ea typeface="Calibri"/>
              </a:rPr>
              <a:t>история происхождения русских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3.  Разработать анкету и провести анкетирование, проанализировать результа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4. Исследовать фамилии моих одноклассников (рассмотреть этимологи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5. Подготовить мультимедийную презентацию, бук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бъек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нтропонимика: русские фамилии, литература, посвященная фамилиям, данные интерне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редме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фамилии учащихся 5 класса Таскинской школы, происхождение и значение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ланируемые результаты: </a:t>
            </a:r>
            <a:r>
              <a:rPr b="0" lang="ru-RU" sz="2000" spc="-1" strike="noStrike">
                <a:solidFill>
                  <a:srgbClr val="000000"/>
                </a:solidFill>
                <a:latin typeface="Times New Roman"/>
                <a:ea typeface="Calibri"/>
              </a:rPr>
              <a:t>повышение интереса к происхождению и значению фамилий, к урокам русского языка; познавательной активности, составление </a:t>
            </a:r>
            <a:r>
              <a:rPr b="0" lang="ru-RU" sz="2000" spc="-1" strike="noStrike">
                <a:solidFill>
                  <a:srgbClr val="000000"/>
                </a:solidFill>
                <a:latin typeface="Times New Roman"/>
                <a:ea typeface="Calibri"/>
              </a:rPr>
              <a:t>буклета «Происхождение и значение фамилий моих одноклассников».</a:t>
            </a:r>
            <a:endParaRPr b="0" lang="en-US" sz="20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04920" y="339840"/>
            <a:ext cx="8534160" cy="617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Основная  част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1. Значение слова «фамил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тересна история самого слова «фамилия».  По происхождению своему оно латинское и в русский язык попало в составе заимствованных из языков Западной Европы.  Но в России слово «фамилия» поначалу употреблялось в значении «семья». И только в XIX веке это слово в русском языке постепенно приобрело своё второе значение, ставшее затем основным. Как известно, фамилия – это наследственное семейное именование, употребляемое вместе с личным именем. То есть она передаётся из поколения в поколение, от старших членов семьи – младши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Таким образом, чтобы узнать, в чём состоит значение и тайна фамилии, нужно обратиться к её истокам, понять, какова их история и происхождение. Фамилия – очень ценный материал для исследования в разных областях зна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днако далеко не каждый задумывается над тем фактом, что еще до середины XIX века фамилия была скорее исключением из правил. Сегодня это звучит как нонсенс. А между тем массовое «производство» и «присваивание» фамилий началось после падения крепостного права в 1861 году. Тогда крестьяне перестали кому-либо принадлежать, стали самостоятельными, а прозвища типа «Микола, Великие Лапти» перестали котироваться. Вот тогда-то и возникла потребность дать им фамил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фициально основная масса населения России получили фамилии только после первой   всероссийской переписи населения 1897 г.  Те, кто проводил эту перепись, не мудрствовали лукаво при подборе фамилии крестьянам. В основном они давались по отчеству отца или деда Поэтому, из списка 100 наиболее популярных русских фамилий, первые места занимают – Иванов, Васильев, Петров, Михайлов, Федоров, Яковлев, Андреев, Александр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Для того, чтобы профессионально вести разговор о фамилиях, необходимо начать с самого главного – как они образовывались, какова история происхождения фамилий.</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1" name="Rectangle 4"/>
          <p:cNvSpPr/>
          <p:nvPr/>
        </p:nvSpPr>
        <p:spPr>
          <a:xfrm>
            <a:off x="304920" y="325080"/>
            <a:ext cx="85341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 Наука, изучающая фамил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сточником исторических исследований могут быть не только тайные подвалы древнего замка или средневековый манускрипт, но и собственный паспорт, поскольку в наших паспортах указаны фамилии – семейные прозвания, возникшие ещё в XIX, XVIII и даже XVII веках, а первоначальное значение их основ очень часто являются для большинства тайной за семью печатями. И эту тайну разгадать порой весьма непросто.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казывается, фамилии могут рассказать об очень многом. Наука, изучающая происхождение фамилий, называется антропонимика.  </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Антропонимика</a:t>
            </a:r>
            <a:r>
              <a:rPr b="0" lang="ru-RU" sz="2000" spc="-1" strike="noStrike">
                <a:solidFill>
                  <a:srgbClr val="000000"/>
                </a:solidFill>
                <a:latin typeface="Times New Roman"/>
                <a:ea typeface="Calibri"/>
              </a:rPr>
              <a:t> – раздел ономастики, изучающий имена людей и их отдельные составляющие (личные имена, отчества, фамилии, прозвища), их происхождение, закономерности и функционирования. Антропонимика вычленилась из ономастики в 60 – 70-е годы 20 век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номастика</a:t>
            </a:r>
            <a:r>
              <a:rPr b="0" lang="ru-RU" sz="2000" spc="-1" strike="noStrike">
                <a:solidFill>
                  <a:srgbClr val="000000"/>
                </a:solidFill>
                <a:latin typeface="Times New Roman"/>
                <a:ea typeface="Calibri"/>
              </a:rPr>
              <a:t> – с греческого "</a:t>
            </a:r>
            <a:r>
              <a:rPr b="0" i="1" lang="ru-RU" sz="2000" spc="-1" strike="noStrike">
                <a:solidFill>
                  <a:srgbClr val="000000"/>
                </a:solidFill>
                <a:latin typeface="Times New Roman"/>
                <a:ea typeface="Calibri"/>
              </a:rPr>
              <a:t>onomastikе", </a:t>
            </a:r>
            <a:r>
              <a:rPr b="0" lang="ru-RU" sz="2000" spc="-1" strike="noStrike">
                <a:solidFill>
                  <a:srgbClr val="000000"/>
                </a:solidFill>
                <a:latin typeface="Times New Roman"/>
                <a:ea typeface="Calibri"/>
              </a:rPr>
              <a:t>которое в древности переводилось на наш язык просто как «искусство давать имена.</a:t>
            </a:r>
            <a:endParaRPr b="0" lang="en-US" sz="2000" spc="-1" strike="noStrike">
              <a:solidFill>
                <a:srgbClr val="000000"/>
              </a:solidFill>
              <a:latin typeface="Arial"/>
            </a:endParaRPr>
          </a:p>
        </p:txBody>
      </p:sp>
      <p:pic>
        <p:nvPicPr>
          <p:cNvPr id="302" name="Picture 4" descr="1"/>
          <p:cNvPicPr/>
          <p:nvPr/>
        </p:nvPicPr>
        <p:blipFill>
          <a:blip r:embed="rId1"/>
          <a:stretch/>
        </p:blipFill>
        <p:spPr>
          <a:xfrm>
            <a:off x="3048120" y="5029200"/>
            <a:ext cx="2819160" cy="1521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4" name="Rectangle 4"/>
          <p:cNvSpPr/>
          <p:nvPr/>
        </p:nvSpPr>
        <p:spPr>
          <a:xfrm>
            <a:off x="228600" y="329760"/>
            <a:ext cx="8610480" cy="5336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 Учёные –антропонимис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азработкой основных вопросов антропонимики занимались В.Д. Бондалетов, Н.А. Баскаков, С.И. Зинин, А.А. Реформатский и др. Отечественная антропонимика в 1980-90-е годы XX столетия пополнилась работами И. М. Ганжиной, М. В.  Горбаневского, Ю. А. Карпенко, И. А. Королёва, Т. Н. Кондратьевой, В. А. Никонова, Н. Н. Парфёновой, Н. В. Подольской, Б. О. Унбегауна, Н. К. Фролов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Ученые-антропонимисты подчеркивают, что изучение происхождения фамилий способно дать полезные сведения и для историков, и для исследователей русского языка, т.к. некоторые слова, исчезнувшие из современного языка, могли сохраниться в фамилии. Восстанавливая такие слова, мы можем восстановить и некоторые детали жизни наших пред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оссийские исследователи</a:t>
            </a:r>
            <a:r>
              <a:rPr b="0" lang="ru-RU" sz="1800" spc="-1" strike="noStrike">
                <a:solidFill>
                  <a:srgbClr val="000000"/>
                </a:solidFill>
                <a:latin typeface="Times New Roman"/>
                <a:ea typeface="Calibri"/>
              </a:rPr>
              <a:t> – </a:t>
            </a:r>
            <a:r>
              <a:rPr b="0" lang="ru-RU" sz="1800" spc="-1" strike="noStrike">
                <a:solidFill>
                  <a:srgbClr val="000000"/>
                </a:solidFill>
                <a:latin typeface="Times New Roman"/>
                <a:ea typeface="Calibri"/>
              </a:rPr>
              <a:t>антропонимисты занимаются изучением русских фамилий относительно недавно, среди работ, посвященных этой теме, можно назвать словарь Ю. А. Федосюка «Русские фамилии», сборник Никонова В. А. «Имя и общество», «Ономастикон» Веселовского С. Б.  Из этих работ мне удалось узнать, что первые русские фамилии встречаются в дошедших до нас древнерусских документах 15 века, но существовать они могли и ранее.  В 19 веке почти каждый русский уже имел фамилию. Но строгую наследственность и юридическую закрепленность они получили в 1930 году. </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304920" y="333360"/>
            <a:ext cx="85341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 Группы фамилий</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a:t>
            </a:r>
            <a:r>
              <a:rPr b="1" lang="ru-RU" sz="1800" spc="-1" strike="noStrike">
                <a:solidFill>
                  <a:srgbClr val="000000"/>
                </a:solidFill>
                <a:latin typeface="Times New Roman"/>
                <a:ea typeface="Calibri"/>
              </a:rPr>
              <a:t>от канонических и различных народных форм имен, полученных при крещении</a:t>
            </a:r>
            <a:r>
              <a:rPr b="0" lang="ru-RU" sz="1800" spc="-1" strike="noStrike">
                <a:solidFill>
                  <a:srgbClr val="000000"/>
                </a:solidFill>
                <a:latin typeface="Times New Roman"/>
                <a:ea typeface="Calibri"/>
              </a:rPr>
              <a:t>: Иванов, Петро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До 13 века большинство русских людей носили еще и </a:t>
            </a:r>
            <a:r>
              <a:rPr b="1" lang="ru-RU" sz="1800" spc="-1" strike="noStrike">
                <a:solidFill>
                  <a:srgbClr val="000000"/>
                </a:solidFill>
                <a:latin typeface="Times New Roman"/>
                <a:ea typeface="Calibri"/>
              </a:rPr>
              <a:t>мирское, нецерковное имя</a:t>
            </a:r>
            <a:r>
              <a:rPr b="0" lang="ru-RU" sz="1800" spc="-1" strike="noStrike">
                <a:solidFill>
                  <a:srgbClr val="000000"/>
                </a:solidFill>
                <a:latin typeface="Times New Roman"/>
                <a:ea typeface="Calibri"/>
              </a:rPr>
              <a:t>: Бессон, Нечай и т.п. Нередко потомки получали фамилию от этого обиходного имени или прозвища.</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местности, родом откуда был один из предков </a:t>
            </a:r>
            <a:r>
              <a:rPr b="0" lang="ru-RU" sz="1800" spc="-1" strike="noStrike">
                <a:solidFill>
                  <a:srgbClr val="000000"/>
                </a:solidFill>
                <a:latin typeface="Times New Roman"/>
                <a:ea typeface="Calibri"/>
              </a:rPr>
              <a:t>(основой таких фамилий становились разные географические названия – городов, деревень, станиц, рек, озер и т.д.): Мещеряков, Новгородце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профессиональных прозвищ предков</a:t>
            </a:r>
            <a:r>
              <a:rPr b="0" lang="ru-RU" sz="1800" spc="-1" strike="noStrike">
                <a:solidFill>
                  <a:srgbClr val="000000"/>
                </a:solidFill>
                <a:latin typeface="Times New Roman"/>
                <a:ea typeface="Calibri"/>
              </a:rPr>
              <a:t>, рассказывающие, кто из них, чем занимался. Отсюда Гончаровы, Овсянниковы, Ковали и т.п.</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Группа фамилий, которые получали учащиеся </a:t>
            </a:r>
            <a:r>
              <a:rPr b="1" lang="ru-RU" sz="1800" spc="-1" strike="noStrike">
                <a:solidFill>
                  <a:srgbClr val="000000"/>
                </a:solidFill>
                <a:latin typeface="Times New Roman"/>
                <a:ea typeface="Calibri"/>
              </a:rPr>
              <a:t>духовных заведений</a:t>
            </a: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это были либо названия приходов, либо иноязычные слова, либо какие-то экзотические названия, либо церковные праздники</a:t>
            </a:r>
            <a:r>
              <a:rPr b="0" lang="ru-RU" sz="1800" spc="-1" strike="noStrike">
                <a:solidFill>
                  <a:srgbClr val="000000"/>
                </a:solidFill>
                <a:latin typeface="Times New Roman"/>
                <a:ea typeface="Calibri"/>
              </a:rPr>
              <a:t>. Отсюда Троицкие, Рожественские, Гиацинтовы и Кипарисовы.</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представителей животного мира</a:t>
            </a:r>
            <a:r>
              <a:rPr b="0" lang="ru-RU" sz="1800" spc="-1" strike="noStrike">
                <a:solidFill>
                  <a:srgbClr val="000000"/>
                </a:solidFill>
                <a:latin typeface="Times New Roman"/>
                <a:ea typeface="Calibri"/>
              </a:rPr>
              <a:t>. Отсюда Зайцевы, Воробьёвы, Медведевы и др.</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очитав несколько работ, посвященных происхождению русских фамилий, я решила провести собственное исследование, предметом которого стали бы фамилии моих одноклассников. </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
          <p:cNvSpPr/>
          <p:nvPr/>
        </p:nvSpPr>
        <p:spPr>
          <a:xfrm>
            <a:off x="304920" y="234720"/>
            <a:ext cx="85341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a:t>
            </a:r>
            <a:r>
              <a:rPr b="1" lang="ru-RU" sz="1800" spc="-1" strike="noStrike" u="sng">
                <a:solidFill>
                  <a:srgbClr val="000000"/>
                </a:solidFill>
                <a:uFillTx/>
                <a:latin typeface="Times New Roman"/>
                <a:ea typeface="Times New Roman"/>
              </a:rPr>
              <a:t>Исследование фамилий моих однокласс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1. Анке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В ходе проекта нами разработана анкета и проведено анкетирование с учащимися 5-9 классов  (15 человек) с целью: узнать, что они знают о фамилиях. Результаты анкетирования в </a:t>
            </a:r>
            <a:r>
              <a:rPr b="1" lang="ru-RU" sz="1800" spc="-1" strike="noStrike" u="sng">
                <a:solidFill>
                  <a:srgbClr val="000000"/>
                </a:solidFill>
                <a:uFillTx/>
                <a:latin typeface="Times New Roman"/>
                <a:ea typeface="Calibri"/>
              </a:rPr>
              <a:t>Приложении 3.</a:t>
            </a:r>
            <a:r>
              <a:rPr b="0" lang="ru-RU" sz="1800" spc="-1" strike="noStrike">
                <a:solidFill>
                  <a:srgbClr val="000000"/>
                </a:solidFill>
                <a:latin typeface="Times New Roman"/>
                <a:ea typeface="Calibri"/>
              </a:rPr>
              <a:t>  </a:t>
            </a:r>
            <a:endParaRPr b="0" lang="en-US" sz="1800" spc="-1" strike="noStrike">
              <a:solidFill>
                <a:srgbClr val="000000"/>
              </a:solidFill>
              <a:latin typeface="Arial"/>
            </a:endParaRPr>
          </a:p>
        </p:txBody>
      </p:sp>
      <p:pic>
        <p:nvPicPr>
          <p:cNvPr id="307" name="Диаграмма 4" descr=""/>
          <p:cNvPicPr/>
          <p:nvPr/>
        </p:nvPicPr>
        <p:blipFill>
          <a:blip r:embed="rId1"/>
          <a:stretch/>
        </p:blipFill>
        <p:spPr>
          <a:xfrm>
            <a:off x="1447920" y="1981080"/>
            <a:ext cx="6095880" cy="3657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Диаграмма 3" descr=""/>
          <p:cNvPicPr/>
          <p:nvPr/>
        </p:nvPicPr>
        <p:blipFill>
          <a:blip r:embed="rId1"/>
          <a:stretch/>
        </p:blipFill>
        <p:spPr>
          <a:xfrm>
            <a:off x="152280" y="304920"/>
            <a:ext cx="5438880" cy="3124080"/>
          </a:xfrm>
          <a:prstGeom prst="rect">
            <a:avLst/>
          </a:prstGeom>
          <a:ln w="0">
            <a:noFill/>
          </a:ln>
        </p:spPr>
      </p:pic>
      <p:pic>
        <p:nvPicPr>
          <p:cNvPr id="309" name="Диаграмма 4" descr=""/>
          <p:cNvPicPr/>
          <p:nvPr/>
        </p:nvPicPr>
        <p:blipFill>
          <a:blip r:embed="rId2"/>
          <a:stretch/>
        </p:blipFill>
        <p:spPr>
          <a:xfrm>
            <a:off x="3429000" y="3429000"/>
            <a:ext cx="5486400" cy="3200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8:46:57Z</dcterms:created>
  <dc:creator>User</dc:creator>
  <dc:description/>
  <dc:language>en-US</dc:language>
  <cp:lastModifiedBy>Пользователь Windows</cp:lastModifiedBy>
  <dcterms:modified xsi:type="dcterms:W3CDTF">2018-05-23T07:40:52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